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4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28608-517A-4EEA-8395-22ED2A7BD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DD664-6A03-4262-8E8E-2B68E6DA3B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4BC30-3BB2-4AED-980C-F1D765FEB3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8454C-60D2-4B87-8AB5-9AF04CE90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E11CF-49AF-4AF6-A196-7EB00E1AE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2EFFC-A8C6-4036-8ED0-7771A78EE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F20D-0D36-48E7-9446-1E64561C96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37B19-9FD3-423E-8541-73FF05B331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4764-658B-4D46-BA95-BAEEA2E252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BBF0-FDEA-4690-AAFD-C62D8D3FB4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B6A9-957D-467A-8601-EB99CEFC4F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50AC-E5B8-47F7-8DC9-8F842592B4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7499-3B66-4B52-9097-9BB4E4712D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DD4CC-68B6-4043-A2F9-E4E35EF8F0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BDCC-2247-4591-B712-F59F59409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EC4B6-13A0-4686-822A-6D97F11F6C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BEFD8-5CE9-4537-96DF-64DCCB4833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05BA-6A73-4D49-B5AB-1B94279050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8BBA-894B-4F57-9E3D-06E4268185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820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560" y="3947040"/>
            <a:ext cx="264852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BE1C-B778-494F-A05A-90B496D51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99C7-146D-4ED9-B6D1-8799E99E9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225D0-04D3-4AE1-96B4-F1D43E121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B8BD-7D18-4AF2-8DD4-0CA1DA488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A32DD-E2EA-4CBF-AE84-9DF68682F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774C-4AE9-44D4-B41B-B0F3361DB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394704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9163-8608-4059-8920-C4A3C65246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947040"/>
            <a:ext cx="8226360" cy="21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37BF-908E-4A2A-83C1-A0EA11F7B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0680" cy="1979280"/>
            <a:chOff x="0" y="0"/>
            <a:chExt cx="7240680" cy="1979280"/>
          </a:xfrm>
        </p:grpSpPr>
        <p:sp>
          <p:nvSpPr>
            <p:cNvPr id="1" name=""/>
            <p:cNvSpPr/>
            <p:nvPr/>
          </p:nvSpPr>
          <p:spPr>
            <a:xfrm>
              <a:off x="0" y="924840"/>
              <a:ext cx="7121520" cy="105444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0680" cy="190188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6D130-226A-47BD-AA99-CEDF8437F68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6760" cy="5941800"/>
            <a:chOff x="0" y="0"/>
            <a:chExt cx="8456760" cy="5941800"/>
          </a:xfrm>
        </p:grpSpPr>
        <p:sp>
          <p:nvSpPr>
            <p:cNvPr id="45" name=""/>
            <p:cNvSpPr/>
            <p:nvPr/>
          </p:nvSpPr>
          <p:spPr>
            <a:xfrm>
              <a:off x="0" y="2285280"/>
              <a:ext cx="8182080" cy="365652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6760" cy="585468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6E9467C-B880-4A8A-9483-84590CF65B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98900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Никто не забыт, ничто не забыто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4868640"/>
            <a:ext cx="822636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1 кв. кат. Максимова С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исьма с фрон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443640" y="1916280"/>
            <a:ext cx="2144880" cy="403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5111640" cy="38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-14400"/>
            <a:ext cx="7993080" cy="6872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8820000" cy="5785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250920" y="2060640"/>
            <a:ext cx="8281800" cy="163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локада   Ленинграда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 -6 L -3.36572 -6 L 0.05121 0.37428 E">
                                      <p:cBhvr>
                                        <p:cTn id="15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click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627280" y="-6480"/>
            <a:ext cx="5473800" cy="532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3648240"/>
            <a:ext cx="5219640" cy="3209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27280" cy="3645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219640" y="4797360"/>
            <a:ext cx="3924360" cy="2060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8028000" y="0"/>
            <a:ext cx="1116000" cy="3284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8028000" y="1557360"/>
            <a:ext cx="111600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395280" y="836640"/>
            <a:ext cx="2808360" cy="1079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2329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250 г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724360" y="4941720"/>
            <a:ext cx="3419640" cy="882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46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25 г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4429080" cy="2786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57160" y="1143000"/>
            <a:ext cx="678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2f2f2"/>
                </a:solidFill>
                <a:latin typeface="Calibri"/>
              </a:rPr>
              <a:t>«</a:t>
            </a: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Женя умерла 28 декабря, в 12 часов 30 минут утра, 1941го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Бабушка умерла 25 января в 3 часа дня  194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Лека умер 17 марта в 6 часов утра 194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Дядя Вася умер13 апреля в 2 часа ночи1942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Мама - 13 мая в 7 часов 30 минут утра 1942 года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Calibri"/>
              </a:rPr>
              <a:t>Савичевы умерли. Умерли все. Осталась одна Таня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828720" y="109440"/>
            <a:ext cx="7602480" cy="12258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2341800" cy="266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857240" y="214200"/>
            <a:ext cx="55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Calibri"/>
              </a:rPr>
              <a:t>Дети рано взросл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978440" y="785880"/>
            <a:ext cx="3451320" cy="50004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71680" y="1714680"/>
            <a:ext cx="3929040" cy="33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152280"/>
            <a:ext cx="38098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очь на 9 мая 1945 года был подписан акт капитуляции Германи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зже, 2 сентября того же года, Япония тоже подпишет акт капитуля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00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ейчас оба этих документа хранятся на Поклонной горе в музее В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038480" y="1295280"/>
            <a:ext cx="4951440" cy="4494240"/>
            <a:chOff x="4038480" y="1295280"/>
            <a:chExt cx="4951440" cy="449424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4038480" y="1295280"/>
              <a:ext cx="4951440" cy="44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038480" y="1295280"/>
              <a:ext cx="4951440" cy="449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152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ЧТИМ ИХ ПАМЯТЬ МИНУТОЙ МОЛЧ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1FA3F-2FBE-4496-8642-A3EA03E0AE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60200"/>
            <a:ext cx="8915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омните! Через века, через года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57400" y="1447920"/>
            <a:ext cx="5027760" cy="5027400"/>
            <a:chOff x="2057400" y="1447920"/>
            <a:chExt cx="5027760" cy="5027400"/>
          </a:xfrm>
        </p:grpSpPr>
        <p:graphicFrame>
          <p:nvGraphicFramePr>
            <p:cNvPr id="166" name=""/>
            <p:cNvGraphicFramePr/>
            <p:nvPr/>
          </p:nvGraphicFramePr>
          <p:xfrm>
            <a:off x="2057400" y="1447920"/>
            <a:ext cx="5027760" cy="5027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447920"/>
                      <a:ext cx="5027760" cy="50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"/>
            <p:cNvSpPr/>
            <p:nvPr/>
          </p:nvSpPr>
          <p:spPr>
            <a:xfrm>
              <a:off x="2057400" y="1447920"/>
              <a:ext cx="5027760" cy="50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ransition spd="slow"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9946D-323D-4CEF-9E9B-67A98B0E495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03040" y="52560"/>
            <a:ext cx="8077320" cy="6248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208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652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1484280"/>
            <a:ext cx="8569080" cy="5184720"/>
          </a:xfrm>
          <a:prstGeom prst="rect">
            <a:avLst/>
          </a:prstGeom>
          <a:solidFill>
            <a:srgbClr val="72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К тем, кто воевал, 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к тем, кто не знает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что такое войн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обращен мой рассказ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Смотрите и слушай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с вами говори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Истор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Tahoma"/>
              </a:rPr>
              <a:t>Историей стала Вой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501480"/>
            <a:ext cx="8335800" cy="703440"/>
          </a:xfrm>
          <a:prstGeom prst="rect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c1c1c"/>
                </a:solidFill>
                <a:latin typeface="Tahoma"/>
              </a:rPr>
              <a:t>И пусть поколения помнят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48000" cy="4773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72000" cy="2709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2771640" cy="3286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516720" y="4005360"/>
            <a:ext cx="2771640" cy="2997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2771640" cy="306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476360" y="4437000"/>
            <a:ext cx="6264360" cy="1366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22  июн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63640" y="2349360"/>
            <a:ext cx="5400720" cy="134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часа утр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4005360"/>
            <a:ext cx="7848720" cy="2262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a231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1941 год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a231e"/>
                  </a:gs>
                </a:gsLst>
                <a:lin ang="5400000"/>
              </a:gradFill>
              <a:effectLst>
                <a:outerShdw dist="17819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 -6 L 2.84525 -7 L -0.00399 -0.55054 E">
                                      <p:cBhvr>
                                        <p:cTn id="18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click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click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 -6 L -2.9239 -6 L -0.00399 -0.24867 E">
                                      <p:cBhvr>
                                        <p:cTn id="37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0920" y="4508640"/>
            <a:ext cx="43923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Такою всё дышало тишиной,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Что вся земля еще спала, казалос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Кто знал, что между миром и вой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Tahoma"/>
              </a:rPr>
              <a:t>Всего каких-то пять минут осталось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465440" cy="573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619280" y="333360"/>
            <a:ext cx="5398920" cy="6189840"/>
            <a:chOff x="1619280" y="333360"/>
            <a:chExt cx="5398920" cy="6189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1619280" y="333360"/>
              <a:ext cx="5398920" cy="618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1619280" y="333360"/>
              <a:ext cx="5398920" cy="61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46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189000"/>
            <a:ext cx="4211640" cy="6408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720000"/>
                </a:solidFill>
                <a:latin typeface="Tahoma"/>
              </a:rPr>
              <a:t>Победа под Сталинградом вошла в мировую историю как символ стойкости, мужества и героизма советского народ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189000"/>
            <a:ext cx="4691160" cy="6406920"/>
            <a:chOff x="0" y="189000"/>
            <a:chExt cx="4691160" cy="64069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4691160" cy="640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0" y="189000"/>
              <a:ext cx="4691160" cy="64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1042920" y="5950080"/>
            <a:ext cx="2808360" cy="43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17 июля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click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click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759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371520"/>
            <a:ext cx="9144000" cy="6486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0" y="476280"/>
            <a:ext cx="9144000" cy="6054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819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-76320" y="1808280"/>
            <a:ext cx="9220320" cy="36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9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0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13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284720" y="4076640"/>
            <a:ext cx="48592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8532720" cy="3735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413480" y="412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700360" y="189000"/>
            <a:ext cx="6119640" cy="70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нег, политый кровью…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4013280"/>
            <a:ext cx="7742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редняя продолжительность жизни советских офицеров в боях за Сталинград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андира  взвода-3 дн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андира  роты-7 д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андира  батальона-11 дн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омандира  полка- 20 дн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лдата-1 ден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7:04:08Z</dcterms:created>
  <dc:creator>-</dc:creator>
  <dc:description/>
  <dc:language>en-US</dc:language>
  <cp:lastModifiedBy>Руслан</cp:lastModifiedBy>
  <dcterms:modified xsi:type="dcterms:W3CDTF">2011-05-10T17:47:57Z</dcterms:modified>
  <cp:revision>68</cp:revision>
  <dc:subject/>
  <dc:title>Сталь и огонь Сталинграда</dc:title>
</cp:coreProperties>
</file>